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B56F-0A5D-45B5-876D-E38ED30B5C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755D-C8CB-43E9-9F34-369B3CDC3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C140-B11F-48AE-9030-5A886B6F8D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9483-7F94-4D21-8284-1B06080576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E79D-9E76-4445-B4B5-2B3AD38D7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9C07-8286-45B6-B050-EFBB117426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08C8-E7E5-4A78-8573-1A73F5000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0CBB-E547-4136-90AA-230F062F7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DBF7-CD2C-4510-AACF-0FD9F7892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28E6-64B9-43D3-8CF7-AE838A5C79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BBE1-9E16-46C2-9B14-4A0C07729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D5E2-05C0-473A-8995-8B34CC5E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6E7E-1303-4DB2-BFB3-D40DE7DA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B268-17FC-4812-AD15-13E18BA1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BA4C-93E7-404E-AE7E-379C2367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8872-FDDF-41C6-A67D-F7A4E8FA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82A1-6664-44CE-A3EA-0E943B66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D04-3706-4A35-8C78-DA2C9D69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A8C7-7603-4C3A-886C-E17B3E3C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6B83-14D5-4C22-9871-EEBD88D5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00F1-EB45-4A8A-AF6F-6BC24862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DB60-9E34-4ADF-BF9C-0682269D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2636-2942-4DD9-9C79-4B47A334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AFF2-0B37-4C4B-913D-10DF7C711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Kaizen Central Sch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a Lou C. Liv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om 207 Grade I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ne 2011- March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742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Forte"/>
              </a:rPr>
              <a:t>Thank You !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Sc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21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First Grading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plants live and g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nimals grow and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ing things and their environm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Second Grading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ter and how it chang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ces, machines, and wor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in your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6248520" y="2057400"/>
            <a:ext cx="2076480" cy="113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5791320" y="3952800"/>
            <a:ext cx="2590560" cy="1838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4"/>
          <a:stretch/>
        </p:blipFill>
        <p:spPr>
          <a:xfrm>
            <a:off x="5791320" y="91440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Sc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3rd Grading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in the Earth's surf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s of the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n, planets, and mo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uds and st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Forte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Grading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ody's syste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867280" y="1981080"/>
            <a:ext cx="266724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3"/>
          <a:stretch/>
        </p:blipFill>
        <p:spPr>
          <a:xfrm>
            <a:off x="4876920" y="3886200"/>
            <a:ext cx="30477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4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Social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14040" y="1066680"/>
            <a:ext cx="88390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Forte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Grading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Build Commun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fe in Communi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ties and Geograp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Forte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Grading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ies Have Histo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Communities in Philippin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on the Mo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Ideas Change Communi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6524640" y="3048120"/>
            <a:ext cx="2314440" cy="2819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3"/>
          <a:stretch/>
        </p:blipFill>
        <p:spPr>
          <a:xfrm>
            <a:off x="6019920" y="1066680"/>
            <a:ext cx="2209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7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8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Social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Forte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Grading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ies at Wor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74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ving and Work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74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ing in Communi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Forte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Grading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ies Have Governm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74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Government Work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74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tizens in A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5257800" y="1905120"/>
            <a:ext cx="3048120" cy="2361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3"/>
          <a:stretch/>
        </p:blipFill>
        <p:spPr>
          <a:xfrm>
            <a:off x="5181480" y="4952880"/>
            <a:ext cx="32767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Language A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2193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rte"/>
              </a:rPr>
              <a:t>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Forte"/>
              </a:rPr>
              <a:t>st</a:t>
            </a:r>
            <a:r>
              <a:rPr b="0" lang="en-US" sz="2700" spc="-1" strike="noStrike">
                <a:solidFill>
                  <a:srgbClr val="000000"/>
                </a:solidFill>
                <a:latin typeface="Forte"/>
              </a:rPr>
              <a:t> Grading Perio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pell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ad aloud accurately a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th appropriate intonation and expression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rte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Forte"/>
              </a:rPr>
              <a:t>nd</a:t>
            </a:r>
            <a:r>
              <a:rPr b="0" lang="en-US" sz="2700" spc="-1" strike="noStrike">
                <a:solidFill>
                  <a:srgbClr val="000000"/>
                </a:solidFill>
                <a:latin typeface="Forte"/>
              </a:rPr>
              <a:t> Grading Perio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tonyms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ynonyms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ctionary, glossary, thesaurus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ord structure clues to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termine mean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5791320" y="1066680"/>
            <a:ext cx="2581200" cy="1771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5943600" y="3276720"/>
            <a:ext cx="24382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5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7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9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4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4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Englis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9072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Forte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 Grading Peri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uns and ver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 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fixes, suffixe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ot 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Forte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 Grading Perio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use-eff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-contra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k pa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4191120" y="1600200"/>
            <a:ext cx="3983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4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Mat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rte"/>
              </a:rPr>
              <a:t>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Forte"/>
              </a:rPr>
              <a:t>st</a:t>
            </a:r>
            <a:r>
              <a:rPr b="0" lang="en-US" sz="2700" spc="-1" strike="noStrike">
                <a:solidFill>
                  <a:srgbClr val="000000"/>
                </a:solidFill>
                <a:latin typeface="Forte"/>
              </a:rPr>
              <a:t> Grading Perio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pare, Order, and Round Whole Nu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dd Whole Nu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btract Whole Numb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raph and Analyze Data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rte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Forte"/>
              </a:rPr>
              <a:t>nd</a:t>
            </a:r>
            <a:r>
              <a:rPr b="0" lang="en-US" sz="2700" spc="-1" strike="noStrike">
                <a:solidFill>
                  <a:srgbClr val="000000"/>
                </a:solidFill>
                <a:latin typeface="Forte"/>
              </a:rPr>
              <a:t> Grading Perio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ultiplication Concept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ultiplication Facts and Pattern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vision Concept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vision Facts and Pattern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6019920" y="2514600"/>
            <a:ext cx="2019240" cy="1957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5943600" y="4572000"/>
            <a:ext cx="175248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3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7" dur="2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594" dur="20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Ma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Forte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Grading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ric Measure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e and Solid Figur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gruence, Symmetry, and Transformations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Forte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Grading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ction Concep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With Fra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m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5867280" y="762120"/>
            <a:ext cx="2238480" cy="2038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3"/>
          <a:srcRect l="0" t="21334" r="0" b="21787"/>
          <a:stretch/>
        </p:blipFill>
        <p:spPr>
          <a:xfrm>
            <a:off x="4876920" y="3854520"/>
            <a:ext cx="304776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0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4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4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16:58:58Z</dcterms:created>
  <dc:creator>livera</dc:creator>
  <dc:description/>
  <dc:language>en-US</dc:language>
  <cp:lastModifiedBy>livera</cp:lastModifiedBy>
  <dcterms:modified xsi:type="dcterms:W3CDTF">2011-10-03T02:24:55Z</dcterms:modified>
  <cp:revision>21</cp:revision>
  <dc:subject/>
  <dc:title>Suarez Elementary School</dc:title>
</cp:coreProperties>
</file>